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4742-DA4B-44EF-BA51-5328F1568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0B1C-7EF6-4B81-814B-D82B6DBD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E981-443E-4451-8C57-2C00CCE30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13AA-FA30-4158-9079-E619D9027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B212-61CC-4B64-A3C8-767002E4F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C9D1-E20B-44DF-A020-16D8C609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C933-7159-4ABC-BF2A-55BE7648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4EBD-8703-45A8-BE07-F0477D64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38D4-3B9C-49A4-841C-5C561603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BD06-9321-45C6-B176-164FA485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E296-9ED7-4DBA-87B0-57800B48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563C-07D8-46B8-8EBD-3581143B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61BE-A8FC-4851-8C90-FDF271A6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1A88-D68B-4C9E-BB7D-BCD529F9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F7AF-9113-4A29-9B1B-24E559A9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FD7F-0549-41F1-A35D-6569B6B0D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1B965-A9D0-41A8-9652-4C432DBF2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F507A-1E7F-41E6-8DE0-2DA938DB0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4911B-0854-4A32-85D1-DCCF0F7A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71B0A-F107-430B-9C35-DDAD61D1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37A83-CDD2-4EC8-84B4-115D1853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084A6-280B-4E5F-931E-115A6EF4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D8A3-8F01-4EE3-B9CD-A2293CC7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5108F-CF04-4993-8DD7-148553E9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368F8-0D3B-4F1C-A13B-EA754937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15C9D-C12D-4D0E-A935-AE2CD04E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B46BE-C49F-4F11-B095-C5CBC9EA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2CDF0-D4F7-40BF-BB37-ABDC45E6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2E63A-7BFF-4A7A-BE9C-DC785DC1B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71949-20FC-4495-B65E-EB64375E7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AA21C-DA3D-4F2B-B2DF-CB35976C2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8DEBF-F703-4D40-B649-974ED4BA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FACDF-6A6C-4B36-89EE-0EFBF6A2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8617-6BC6-4FCC-9830-EF082B6B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C467C-D964-4955-BDD1-DF9F73A0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04A41-AC27-47D9-B31C-964D7E06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39BD5-48D0-4422-91A1-F1C0B3C5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ED02D-CA69-4645-9AC1-F0DF9950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DDC13-AFCD-4D58-8AE6-4BB74C1D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3F348-3186-4AE5-823D-0E2FCC0A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81C91-956D-4448-B4FB-6D41855E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123DC-A1C8-4E72-8AFF-3D159C4C4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362F8-4C4F-47EA-99DA-9EEAB235D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7E0C-966C-4CAF-BDA0-A6207580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0FD1-C207-49E9-A004-23654159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1F87-C22E-4917-8CE5-986CF8B7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7310-D528-43BC-9299-E50BD3D8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3629-4D91-46DF-87FB-00B40F0C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dbf5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dbf5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66A7-D6DF-4CD6-B7BF-B5535DA9E39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bf5f9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bf5f9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bf5f9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bf5f9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bf5f9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2D0E-EDF0-4102-A5A5-B8B8D1FF142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bf5f9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bf5f9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dbf5f9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819A-EA2A-4B96-8859-698C95C6D24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dbf5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dbf5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52A0-FE44-4BA6-9A12-F5EBC304BA7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3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22960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14040" y="4419720"/>
            <a:ext cx="7543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Unit Plan by: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Alyana A. Agosto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Niña Rose A. Aguilos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Assessment Summary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The class will engage with questions that will measure their past knowledge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There will be class discussion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Formative Evaluation will follow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Assessment Summary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The learners will be grouped accordingly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Start of group discussion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Making of models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Presentation of models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Title 1" descr=""/>
          <p:cNvPicPr/>
          <p:nvPr/>
        </p:nvPicPr>
        <p:blipFill>
          <a:blip r:embed="rId1"/>
          <a:stretch/>
        </p:blipFill>
        <p:spPr>
          <a:xfrm>
            <a:off x="530280" y="2889360"/>
            <a:ext cx="83152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The topic looks into the levels of organization of living things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It would help us know the different roles of each levels of organization into our lives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Goal of the Student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They will be a learner at the same time a teacher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They will be able to share some of there knowledge and apply them to the discussion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Essential Ques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80880" y="22093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Part as a Whole: What about Organ systems?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Essential Ques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How important is the understanding of human anatomy and physiology into our lives?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How technology can be of great help in maintaining and helping defective organs to function well?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Unit Ques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2666880"/>
            <a:ext cx="8229600" cy="15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onstantia"/>
              </a:rPr>
              <a:t>What is the importance of each part and functions of Organ systems into our lives?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Content Ques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25909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What are organ systems?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-What are the different types of organ systems?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What are their uses?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Content Ques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What are organ systems?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-What are the different types of organ systems?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-What are their uses?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What is an organism?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Assessment Timeli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52280" y="1600200"/>
          <a:ext cx="8839440" cy="4789440"/>
        </p:xfrm>
        <a:graphic>
          <a:graphicData uri="http://schemas.openxmlformats.org/drawingml/2006/table">
            <a:tbl>
              <a:tblPr/>
              <a:tblGrid>
                <a:gridCol w="2946600"/>
                <a:gridCol w="2946240"/>
                <a:gridCol w="29466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93239"/>
                          </a:solidFill>
                          <a:latin typeface="Arial"/>
                        </a:rPr>
                        <a:t>Before Project Begins</a:t>
                      </a:r>
                      <a:endParaRPr b="0" lang="en-US" sz="2800" spc="-1" strike="noStrike">
                        <a:solidFill>
                          <a:srgbClr val="dbf5f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93239"/>
                          </a:solidFill>
                          <a:latin typeface="Arial"/>
                        </a:rPr>
                        <a:t>Students work on projects and complete tasks</a:t>
                      </a:r>
                      <a:endParaRPr b="0" lang="en-US" sz="2800" spc="-1" strike="noStrike">
                        <a:solidFill>
                          <a:srgbClr val="dbf5f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93239"/>
                          </a:solidFill>
                          <a:latin typeface="Arial"/>
                          <a:ea typeface="Times New Roman"/>
                        </a:rPr>
                        <a:t>After project work is completed</a:t>
                      </a:r>
                      <a:endParaRPr b="0" lang="en-US" sz="2800" spc="-1" strike="noStrike">
                        <a:solidFill>
                          <a:srgbClr val="dbf5f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</a:tr>
              <a:tr h="341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9323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93239"/>
                          </a:solidFill>
                          <a:latin typeface="Arial"/>
                        </a:rPr>
                        <a:t>Questioning</a:t>
                      </a:r>
                      <a:endParaRPr b="0" lang="en-US" sz="2800" spc="-1" strike="noStrike">
                        <a:solidFill>
                          <a:srgbClr val="dbf5f9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9323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93239"/>
                          </a:solidFill>
                          <a:latin typeface="Arial"/>
                        </a:rPr>
                        <a:t>Discussion</a:t>
                      </a:r>
                      <a:endParaRPr b="0" lang="en-US" sz="2800" spc="-1" strike="noStrike">
                        <a:solidFill>
                          <a:srgbClr val="dbf5f9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9323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93239"/>
                          </a:solidFill>
                          <a:latin typeface="Arial"/>
                        </a:rPr>
                        <a:t>Unit quiz</a:t>
                      </a:r>
                      <a:endParaRPr b="0" lang="en-US" sz="2800" spc="-1" strike="noStrike">
                        <a:solidFill>
                          <a:srgbClr val="dbf5f9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9323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93239"/>
                          </a:solidFill>
                          <a:latin typeface="Arial"/>
                        </a:rPr>
                        <a:t>Class groupings</a:t>
                      </a:r>
                      <a:endParaRPr b="0" lang="en-US" sz="2800" spc="-1" strike="noStrike">
                        <a:solidFill>
                          <a:srgbClr val="dbf5f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9323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93239"/>
                          </a:solidFill>
                          <a:latin typeface="Arial"/>
                        </a:rPr>
                        <a:t>Group discussion and sharing of insights</a:t>
                      </a:r>
                      <a:endParaRPr b="0" lang="en-US" sz="2800" spc="-1" strike="noStrike">
                        <a:solidFill>
                          <a:srgbClr val="dbf5f9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9323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93239"/>
                          </a:solidFill>
                          <a:latin typeface="Arial"/>
                        </a:rPr>
                        <a:t>Making of their models (1 week)</a:t>
                      </a:r>
                      <a:endParaRPr b="0" lang="en-US" sz="2800" spc="-1" strike="noStrike">
                        <a:solidFill>
                          <a:srgbClr val="dbf5f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buClr>
                          <a:srgbClr val="09323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93239"/>
                          </a:solidFill>
                          <a:latin typeface="Arial"/>
                        </a:rPr>
                        <a:t>Model presentation</a:t>
                      </a:r>
                      <a:endParaRPr b="0" lang="en-US" sz="2800" spc="-1" strike="noStrike">
                        <a:solidFill>
                          <a:srgbClr val="dbf5f9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93239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93239"/>
                          </a:solidFill>
                          <a:latin typeface="Arial"/>
                        </a:rPr>
                        <a:t>Model rubric</a:t>
                      </a:r>
                      <a:endParaRPr b="0" lang="en-US" sz="2800" spc="-1" strike="noStrike">
                        <a:solidFill>
                          <a:srgbClr val="dbf5f9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04:49:12Z</dcterms:created>
  <dc:creator>USER</dc:creator>
  <dc:description/>
  <dc:language>en-US</dc:language>
  <cp:lastModifiedBy>RCJ</cp:lastModifiedBy>
  <dcterms:modified xsi:type="dcterms:W3CDTF">2010-09-20T07:23:18Z</dcterms:modified>
  <cp:revision>16</cp:revision>
  <dc:subject/>
  <dc:title>Human Anatomy and Physiology</dc:title>
</cp:coreProperties>
</file>